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932-392D-42D1-8EEB-6D1B635A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BAA-30EF-44DA-9FB4-124E1312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4CF-EF77-4FC1-B37C-D2D0AAB9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0BF-A84B-4CE4-A445-72A2B162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F3A8-2508-4D4C-BA8D-7021D72D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9812-5A2A-4DDE-AF44-3248CBFE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4836-238C-4D07-B9DA-1CA184D1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59B4-41C3-42DB-8420-59DFE6BD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E83A-6C05-4D45-BCFC-0F4A1351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07E6-AD33-45C9-B632-D3DF6F6D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52F6-AFC5-4A2D-83B9-B679E1C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052-959D-4309-97BA-8990553C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035-8214-4EBD-AD83-607693B1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767F-6DCF-48A4-A0F7-52402C6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D0C6-D0D1-4514-9955-19A39990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5E1C-E22B-474A-9D79-12C7140E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7DE1-BB32-4623-A050-6C403CEA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9A7-6AA0-4227-80A4-84D3AB1E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1A0-9E99-4A4D-A1C5-207729CA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5C8-5C7D-46E6-B1A4-D6F37217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2DD-BE23-48F6-AFAE-8F8146A2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E6D-5AF5-4AD8-85E5-00FC0396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169-23E6-4491-AABC-6EF7E24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609-0BC2-45F9-874B-89DE345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2E56-DA0E-4AC1-AD68-CED7A1AC093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32C0-1907-488D-B1AB-E07C918BC0F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42200" y="1222200"/>
            <a:ext cx="39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Mae’r ci bach wedi cael e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glymu i bostyn gyda lliny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sy’n mesur 2 met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11280" y="549360"/>
            <a:ext cx="3598920" cy="3098880"/>
            <a:chOff x="611280" y="549360"/>
            <a:chExt cx="3598920" cy="3098880"/>
          </a:xfrm>
        </p:grpSpPr>
        <p:grpSp>
          <p:nvGrpSpPr>
            <p:cNvPr id="214" name=""/>
            <p:cNvGrpSpPr/>
            <p:nvPr/>
          </p:nvGrpSpPr>
          <p:grpSpPr>
            <a:xfrm>
              <a:off x="611280" y="549360"/>
              <a:ext cx="2232000" cy="1582560"/>
              <a:chOff x="611280" y="549360"/>
              <a:chExt cx="2232000" cy="1582560"/>
            </a:xfrm>
          </p:grpSpPr>
          <p:sp>
            <p:nvSpPr>
              <p:cNvPr id="215" name=""/>
              <p:cNvSpPr/>
              <p:nvPr/>
            </p:nvSpPr>
            <p:spPr>
              <a:xfrm flipH="1" flipV="1">
                <a:off x="827280" y="738000"/>
                <a:ext cx="2016000" cy="936360"/>
              </a:xfrm>
              <a:prstGeom prst="line">
                <a:avLst/>
              </a:prstGeom>
              <a:ln w="1015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36360" y="1123920"/>
                <a:ext cx="1582560" cy="433440"/>
              </a:xfrm>
              <a:custGeom>
                <a:avLst/>
                <a:gdLst>
                  <a:gd name="textAreaLeft" fmla="*/ 128160 w 1582560"/>
                  <a:gd name="textAreaRight" fmla="*/ 1454400 w 1582560"/>
                  <a:gd name="textAreaTop" fmla="*/ 34920 h 433440"/>
                  <a:gd name="textAreaBottom" fmla="*/ 398520 h 43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3300"/>
              </a:solidFill>
              <a:ln w="442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898560" y="549360"/>
              <a:ext cx="3311640" cy="309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20000" y="285264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08320" y="4292640"/>
            <a:ext cx="58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Mae’r ci bach eisiau chwarae gyda’r b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ê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360" y="5013360"/>
            <a:ext cx="80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Pa mor agos i’r postyn rhaid i’r b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ê</a:t>
            </a: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l fod fel bod y ci ba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yn gallu chwara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692360" y="620640"/>
            <a:ext cx="5594400" cy="5595120"/>
            <a:chOff x="1692360" y="620640"/>
            <a:chExt cx="5594400" cy="5595120"/>
          </a:xfrm>
        </p:grpSpPr>
        <p:grpSp>
          <p:nvGrpSpPr>
            <p:cNvPr id="222" name=""/>
            <p:cNvGrpSpPr/>
            <p:nvPr/>
          </p:nvGrpSpPr>
          <p:grpSpPr>
            <a:xfrm>
              <a:off x="1692360" y="620640"/>
              <a:ext cx="5594400" cy="5595120"/>
              <a:chOff x="1692360" y="620640"/>
              <a:chExt cx="5594400" cy="5595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692360" y="620640"/>
                <a:ext cx="5594400" cy="1850400"/>
                <a:chOff x="1692360" y="620640"/>
                <a:chExt cx="5594400" cy="18504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50072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43744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56400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62908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50072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744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56400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62908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7236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7236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69236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69236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692360" y="2493720"/>
                <a:ext cx="5594400" cy="1850400"/>
                <a:chOff x="1692360" y="2493720"/>
                <a:chExt cx="5594400" cy="1850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50072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43744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56400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62908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50072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43744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56400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62908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7236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37236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69236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69236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1692360" y="4365360"/>
                <a:ext cx="5594400" cy="1850400"/>
                <a:chOff x="1692360" y="4365360"/>
                <a:chExt cx="5594400" cy="18504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50072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3744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400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62908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50072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43744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56400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62908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37236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37236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69236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69236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4356360" y="3286080"/>
              <a:ext cx="287280" cy="2872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451640" y="692280"/>
            <a:ext cx="563400" cy="792000"/>
            <a:chOff x="7451640" y="692280"/>
            <a:chExt cx="563400" cy="792000"/>
          </a:xfrm>
        </p:grpSpPr>
        <p:sp>
          <p:nvSpPr>
            <p:cNvPr id="264" name=""/>
            <p:cNvSpPr/>
            <p:nvPr/>
          </p:nvSpPr>
          <p:spPr>
            <a:xfrm>
              <a:off x="7451640" y="692280"/>
              <a:ext cx="0" cy="79200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53440" y="9079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1 m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9640" y="191628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3860640"/>
            <a:ext cx="142920" cy="1447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191628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48428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335772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5229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335772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24360" y="1989000"/>
            <a:ext cx="142920" cy="1447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4000" y="5013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24360" y="4724280"/>
            <a:ext cx="142920" cy="1447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4365720"/>
            <a:ext cx="14256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7640" y="3933720"/>
            <a:ext cx="142920" cy="1447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515772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1557360"/>
            <a:ext cx="3745080" cy="37432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27280" y="1557360"/>
            <a:ext cx="3745080" cy="3743280"/>
          </a:xfrm>
          <a:prstGeom prst="ellipse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500360" y="3284640"/>
            <a:ext cx="1871640" cy="0"/>
          </a:xfrm>
          <a:prstGeom prst="line">
            <a:avLst/>
          </a:prstGeom>
          <a:ln w="4428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50160" y="2924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2 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11280" y="4321800"/>
            <a:ext cx="2529720" cy="1536840"/>
            <a:chOff x="611280" y="4321800"/>
            <a:chExt cx="2529720" cy="1536840"/>
          </a:xfrm>
        </p:grpSpPr>
        <p:sp>
          <p:nvSpPr>
            <p:cNvPr id="284" name=""/>
            <p:cNvSpPr/>
            <p:nvPr/>
          </p:nvSpPr>
          <p:spPr>
            <a:xfrm rot="19159200">
              <a:off x="2124000" y="458136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9933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1280" y="4941720"/>
              <a:ext cx="1873080" cy="9169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Comic Sans MS"/>
                </a:rPr>
                <a:t>Locws yr holl bwyntiau sydd 2m o’r posty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52:54Z</dcterms:created>
  <dc:creator>Carwyn</dc:creator>
  <dc:description/>
  <dc:language>en-US</dc:language>
  <cp:lastModifiedBy>Carwyn</cp:lastModifiedBy>
  <dcterms:modified xsi:type="dcterms:W3CDTF">2009-07-02T21:20:11Z</dcterms:modified>
  <cp:revision>6</cp:revision>
  <dc:subject/>
  <dc:title>Slide 1</dc:title>
</cp:coreProperties>
</file>